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C08E-E6F2-4FB3-A107-2477E5BC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9FCA-0D63-47C7-A311-21AD1D88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F0EB-2768-4EC9-9B86-2C5623E3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EAB4-EB93-4BCB-84FD-7306A8D4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07F1-6DF9-4192-B740-F63A5C3A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9AAE-C5AC-4002-8712-8A68B78B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FBBF-AB9C-4878-AA3D-B3846A2F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AA38-9634-40AF-AAC8-AC2C3CCC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93BB-B030-45B2-9DF3-1A6771D3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1EED-91AC-46C6-87BE-BDD3FAEE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958F-0563-4EEB-997E-3D2B644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298F-1883-430A-8F65-597DD647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1C83-B62C-4BA6-BE96-FAFF52D2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93A3-8706-46B3-B23F-5DE920D7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E369-6B48-40AB-9798-B14DC946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E56C-A604-45CB-A03C-5B7C56E3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0D43-71D8-4DB0-839F-837C0328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E673-432A-4A9F-8C35-43202FDB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8DF8-A73D-4391-8F84-3DE16907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6644-E135-45A7-B9C5-E3A39320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88F4-3C00-4570-A505-C7A44D99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AD07-DCC0-4098-8478-98892E89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6CA6-E641-438F-BCFF-14644DDB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3966-1C6B-4B9B-9CE1-E97FCBD8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225D-C565-4144-AD53-9200F9A390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F1E3-2810-4554-94C8-42163B1398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o Now (5 mins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rilliant deduction, Wats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erlock Holmes to his assistant after solving a murder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d on this quote and it’s context, describe what you think deduction mea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du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clusion based on the circum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Check-in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the following two word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 - Logi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- Reaso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Logic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cience of reasoning; using common sen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Reason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ing a conclusion based on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round you; all about PROO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reasoning in forensic sc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In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ing from detailed information to general fact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s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In 1991, 65% of criminals were male. Therefore, criminals are more likely to be me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De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gical process in which a conclusion is drawn from a set of circumstance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vidence-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a suspect’s hands are covered in dirt, therefore, he must have been somewhere dir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fdef6"/>
                </a:solidFill>
                <a:latin typeface="Arial"/>
              </a:rPr>
              <a:t>In Forensic Science…</a:t>
            </a:r>
            <a:endParaRPr b="0" lang="en-US" sz="6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ductive reason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mportant in solving cri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04:58Z</dcterms:created>
  <dc:creator>justin.smith</dc:creator>
  <dc:description/>
  <dc:language>en-US</dc:language>
  <cp:lastModifiedBy>justin.smith</cp:lastModifiedBy>
  <dcterms:modified xsi:type="dcterms:W3CDTF">2011-11-16T20:08:03Z</dcterms:modified>
  <cp:revision>4</cp:revision>
  <dc:subject/>
  <dc:title>Do Now (5 mins)</dc:title>
</cp:coreProperties>
</file>