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168F-6BD8-447B-922A-1FD032FD6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2FC07-4C28-47C0-95F4-BC69B473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6BDA3-18E6-4C43-A7BD-2B920C2B3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FC1A-829B-4E96-AEA2-37A07BF24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9571F-C7A7-4068-A036-E4952DDA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9CAEB-D621-4D8E-BCB9-66E75A9AE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3F76-D749-4BDB-B753-B9FD476AC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19869-C958-43C2-84EF-F6C4DAAF7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C7332-4E54-4A87-9590-1239A5DE2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49DE-11F1-432B-BE53-F8472C0F2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A8B7A-E966-45DC-8BBE-7725845F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A8375-1217-4A0B-A95A-D40FF165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40AB0-4D58-41BF-9FD4-11923655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94DD-63E3-49C5-9456-B94C8537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2687-3E90-49DC-A810-2E885E76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E06E5-957A-40D6-ABA2-B472BCAB6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233D-0375-4170-AA6E-C1753C7BE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BA02-CECB-4F9B-829C-D231401F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0E5F6-D5E9-4AB4-8E9F-6B58D044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0C9CC-9FF4-444E-9F01-807996BEC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2F25F-765B-4E6B-9BB7-DA663A1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C89D1-6C55-46FE-A280-0F9CBD0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C78FF-FBCA-47AB-8BEC-02D04AAD6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23509C-8D41-404E-B48E-5D5F81BB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9CD2F-EDC8-456F-9622-706FFB4268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C0BE-F5D2-4AC0-9FE2-38739E8326E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fdef6"/>
                </a:solidFill>
                <a:latin typeface="Arial"/>
              </a:rPr>
              <a:t>Do Now (5 mins)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Brilliant deduction, Watso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!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-Sherlock Holmes to his assistant after solving a murder ca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ased on this quote and it’s context, describe what you think deduction means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Deduc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conclusion based on the circumsta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Check-in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Define the following two words: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1 - Logic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2- Reasoning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dfdef6"/>
                </a:solidFill>
                <a:latin typeface="Arial"/>
              </a:rPr>
              <a:t>Logic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The science of reasoning; using common sen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dfdef6"/>
                </a:solidFill>
                <a:latin typeface="Arial"/>
              </a:rPr>
              <a:t>Reasoning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orming a conclusion based on </a:t>
            </a: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evidence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around you; all about PROOF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re are two types of reasoning in forensic sc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ductive reas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In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asoning from detailed information to general fact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assump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In 1991, 65% of criminals were male. Therefore, criminals are more likely to be men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fdef6"/>
                </a:solidFill>
                <a:latin typeface="Arial"/>
              </a:rPr>
              <a:t>Deductive Reasoning</a:t>
            </a:r>
            <a:endParaRPr b="0" lang="en-US" sz="5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logical process in which a conclusion is drawn from a set of circumstances; </a:t>
            </a:r>
            <a:r>
              <a:rPr b="0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evidence-bas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) a suspect’s hands are covered in dirt, therefore, he must have been somewhere dir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dfdef6"/>
                </a:solidFill>
                <a:latin typeface="Arial"/>
              </a:rPr>
              <a:t>In Forensic Science…</a:t>
            </a:r>
            <a:endParaRPr b="0" lang="en-US" sz="6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23241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ffffff"/>
                </a:solidFill>
                <a:uFillTx/>
                <a:latin typeface="Arial"/>
              </a:rPr>
              <a:t>Deductive reasoning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most</a:t>
            </a: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 important in solving crimes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3:04:58Z</dcterms:created>
  <dc:creator>justin.smith</dc:creator>
  <dc:description/>
  <dc:language>en-US</dc:language>
  <cp:lastModifiedBy>justin.smith</cp:lastModifiedBy>
  <dcterms:modified xsi:type="dcterms:W3CDTF">2011-11-16T20:08:03Z</dcterms:modified>
  <cp:revision>4</cp:revision>
  <dc:subject/>
  <dc:title>Do Now (5 mins)</dc:title>
</cp:coreProperties>
</file>