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C2B9-C29E-4461-9333-C8F9519F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0F7E-EFD8-40C3-88A8-0360D887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8F3E-3D6A-45A7-9E06-67A5A679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1B82-052B-4F2A-B565-C458DC14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6E9B-57D4-4F26-BFA3-BAC12CCE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68CC-706A-4871-9D6D-AEDF22A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0055-1B3A-4D4E-B27F-FA1909AA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72F2-5950-4031-9C15-EB38CE4F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C467-685D-4C64-891E-AA3511DC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75CB-B117-48C0-B7CE-5F683404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5F0D-3DDC-45C4-9EE2-5C0A8FC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98DA-DA34-4C57-954C-619BFAC9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241B-C8D0-492B-B52E-72F28579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D39E-81F6-4427-BA93-43C77803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FC46-B96C-430D-B083-E9E50952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0D43-24E5-4D37-B476-B9822F14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D76B-F2C5-4333-A9DA-9EBD186B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8B86-D45C-47F1-A310-3674DCB7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6C85-5534-4255-BE9E-B7E2EA6B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6AE7-1485-4B90-8F8A-DD3352DD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65DC-C6FE-4E4B-96A3-B8C13014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68B9-A873-4419-B135-3C95E82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CD13-DD19-45A7-B9F3-35EBCA2C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E092-B69E-424D-B051-51AFBBB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E4CC-04B2-448F-A47D-E9321E64F5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21EF-2333-495E-9953-887CAC688D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o Now (5 mins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rilliant deduction, Wats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erlock Holmes to his assistant after solving a murder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d on this quote and it’s context, describe what you think deduction mea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du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clusion based on the circum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Check-in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the following two wo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 - Logi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- Reaso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Logic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cience of reasoning; using common sen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Reason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ing a conclusion based on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round you; all about PROO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reasoning in forensic sc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In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ing from detailed information to general fact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s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In 1991, 65% of criminals were male. Therefore, criminals are more likely to be m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De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gical process in which a conclusion is drawn from a set of circumstance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vidence-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a suspect’s hands are covered in dirt, therefore, he must have been somewhere dir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fdef6"/>
                </a:solidFill>
                <a:latin typeface="Arial"/>
              </a:rPr>
              <a:t>In Forensic Science…</a:t>
            </a:r>
            <a:endParaRPr b="0" lang="en-US" sz="6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ductive reason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mportant in solving cri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04:58Z</dcterms:created>
  <dc:creator>justin.smith</dc:creator>
  <dc:description/>
  <dc:language>en-US</dc:language>
  <cp:lastModifiedBy>justin.smith</cp:lastModifiedBy>
  <dcterms:modified xsi:type="dcterms:W3CDTF">2011-11-16T20:08:03Z</dcterms:modified>
  <cp:revision>4</cp:revision>
  <dc:subject/>
  <dc:title>Do Now (5 mins)</dc:title>
</cp:coreProperties>
</file>