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B817A-DE9B-41D9-B9F3-E495CA6D3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A6B84-3B75-4065-BA06-6CDBA074C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1054D-40C9-424E-9D55-62D068E4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7785-D6DE-47E2-B8B2-3B46AAEE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1492E-9B7A-4D68-A605-9C5237AD2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33AEE-2C23-4FA8-AC56-BDF2C68F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EB00-08E7-4C1C-BD97-39259E9E5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BCEF-403F-40DB-ADE6-812E4EC09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9F0B5-FE00-4B4B-AD28-1290911C8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756B8-E810-4DF4-B278-58505791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486B-BE6F-415A-B28C-0473C7CFC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FA4BB-8A23-4F42-A8B7-CC11CDBB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F93F-5B7F-44B7-9F68-80FD3E77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6825-C296-48BF-96AC-B53385D2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FC66-5131-452C-B3C6-194CB129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C7B1-8BED-4FA5-8633-D03C55DD0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3FF4-2687-41BD-8F7B-5EE1B1708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030C-7280-4699-9A91-31855E437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8341C-F018-4422-B2E3-93F7FD6A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2D0C7-2E68-4598-89FA-9543AC91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943FE-E3FF-4417-A937-5711B1B8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C66D-7283-491E-B4C7-BE89656E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3E4B7-7FAE-4551-A9F2-8E274408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53D36-C2EC-4FC6-B362-145C83C7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813F-6A7D-4394-B2B2-40843C906A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63BBA-A172-4843-9274-79BCF128864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Do Now (5 mins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rilliant deduction, Wats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Sherlock Holmes to his assistant after solving a murder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ed on this quote and it’s context, describe what you think deduction mea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educ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clusion based on the circum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Check-in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ine the following two word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 - Logi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- Reaso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Logic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cience of reasoning; using common sen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Reason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ing a conclusion based on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evidenc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round you; all about PROO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reasoning in forensic sc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In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ing from detailed information to general fact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s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In 1991, 65% of criminals were male. Therefore, criminals are more likely to be me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De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gical process in which a conclusion is drawn from a set of circumstance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vidence-ba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a suspect’s hands are covered in dirt, therefore, he must have been somewhere dir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fdef6"/>
                </a:solidFill>
                <a:latin typeface="Arial"/>
              </a:rPr>
              <a:t>In Forensic Science…</a:t>
            </a:r>
            <a:endParaRPr b="0" lang="en-US" sz="6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ductive reasonin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mportant in solving crim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3:04:58Z</dcterms:created>
  <dc:creator>justin.smith</dc:creator>
  <dc:description/>
  <dc:language>en-US</dc:language>
  <cp:lastModifiedBy>justin.smith</cp:lastModifiedBy>
  <dcterms:modified xsi:type="dcterms:W3CDTF">2011-11-16T20:08:03Z</dcterms:modified>
  <cp:revision>4</cp:revision>
  <dc:subject/>
  <dc:title>Do Now (5 mins)</dc:title>
</cp:coreProperties>
</file>