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991FD-0502-4C66-9087-BD47605F1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0DE37-CA92-422B-97FF-38CD7C45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D4662-D5A5-43CB-A282-95950BD28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4548A-001C-4D95-9CF7-D8A776C11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56AEE-0ED1-449B-A1D4-F26988717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567D-5EEB-45D3-B6BD-0F38C26E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D4209-6344-4C8C-BE06-FE91951E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21D1E-43E2-4DFE-A9DE-7944B71B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37C2-3FC4-4C74-9C99-58F93F5F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FDEF4-C87D-40B5-8326-F777FAC2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0C5D-5165-4B42-98E2-EE02DCFF4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6BC40-614D-418C-8668-20531CBDB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5B0B2-426E-4CD4-AFB3-A971E52EE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993D8-F265-4D4C-BD0B-B5A1A51D4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E6DF-3DAB-4F6A-9B00-AE211FE7E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C83E-6D81-4A85-B06E-26558E6B9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67E4E-87B6-424F-AED6-7443A95F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70288-A834-4A9F-A268-D44BD082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2D7F0-89DF-4409-AB3A-A5FAF671F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63679-203F-4BD1-9F73-3CBF22FD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5907-1EA7-4607-9EFB-1A167C0D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021F1-1969-40FD-BE2A-92018A01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0250C-013E-4723-8113-800E84D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B057F-2352-48D3-8DA5-C613D3D5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A93EF-258A-47DA-BA0E-A938FCE11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FAE1-F117-4BF1-B983-72E14B59223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Do Now (5 mins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rilliant deduction, Wats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Sherlock Holmes to his assistant after solving a murder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ed on this quote and it’s context, describe what you think deduction mea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educ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clusion based on the circum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Check-in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ine the following two word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 - Logi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- Reaso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Logic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cience of reasoning; using common sen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Reason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ing a conclusion based on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evidenc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round you; all about PROO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reasoning in forensic sc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In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ing from detailed information to general fact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s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In 1991, 65% of criminals were male. Therefore, criminals are more likely to be me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De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gical process in which a conclusion is drawn from a set of circumstance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vidence-ba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a suspect’s hands are covered in dirt, therefore, he must have been somewhere dir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fdef6"/>
                </a:solidFill>
                <a:latin typeface="Arial"/>
              </a:rPr>
              <a:t>In Forensic Science…</a:t>
            </a:r>
            <a:endParaRPr b="0" lang="en-US" sz="6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ductive reasonin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mportant in solving crim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3:04:58Z</dcterms:created>
  <dc:creator>justin.smith</dc:creator>
  <dc:description/>
  <dc:language>en-US</dc:language>
  <cp:lastModifiedBy>justin.smith</cp:lastModifiedBy>
  <dcterms:modified xsi:type="dcterms:W3CDTF">2011-11-16T20:08:03Z</dcterms:modified>
  <cp:revision>4</cp:revision>
  <dc:subject/>
  <dc:title>Do Now (5 mins)</dc:title>
</cp:coreProperties>
</file>