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5C7F-C5D8-4CF5-A97A-8C4C0277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F0C2-F1B5-4915-B7D7-53C895F7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73B8-B12C-47E1-A07B-EFA78E2D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2805-AE30-4E69-BC99-0F3550D2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CE26-5AB5-4BBD-8A15-4B893561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DADA-4CAD-4DBD-BB57-5D1FB11E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347F-95EC-48EB-99DB-AFB5D5C5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C94A-6A2F-4201-986E-31ECFCA1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F71C-2D6B-44CF-969E-A9419BF9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D777-D5B2-4700-B8E2-049D2A88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196A-FF2D-4B2E-AE4F-BA3B0A28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0956-DE07-4839-A0A5-F6B98AFE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2092-FB67-4F94-894B-24A184C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7196-3928-441F-BCB6-27616E0C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FB09-DB58-4870-95EC-F1457B9F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016F-D89E-4851-A1B5-CBC6D665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1A4D-85A2-4B0B-A8C3-40A13902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04AF-4FBB-4325-B686-3ED650D4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238C-E610-4D55-A64D-C85BE913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E059-B275-4CD7-BE02-B906BC44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7D3B-D929-4904-84A9-A10D9C9D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CA55-F09E-4FB6-A0EE-54772241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549D-C2C2-4F30-8D60-F3316E9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1602-D59E-46DC-A59D-EE3B3DB3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C69C-42E0-4E23-B275-16BBA868F4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7CE1-D858-4ABF-ACFF-7B427DB840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Do Now (5 mins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rilliant deduction, Wats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Sherlock Holmes to his assistant after solving a murder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ed on this quote and it’s context, describe what you think deduction mea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educ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clusion based on the circum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Check-in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ine the following two word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 - Logi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- Reaso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Logic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cience of reasoning; using common sen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Reason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ing a conclusion based on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evidenc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round you; all about PROO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reasoning in forensic sc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In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ing from detailed information to general fact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s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In 1991, 65% of criminals were male. Therefore, criminals are more likely to be me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De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gical process in which a conclusion is drawn from a set of circumstance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vidence-ba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a suspect’s hands are covered in dirt, therefore, he must have been somewhere dir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fdef6"/>
                </a:solidFill>
                <a:latin typeface="Arial"/>
              </a:rPr>
              <a:t>In Forensic Science…</a:t>
            </a:r>
            <a:endParaRPr b="0" lang="en-US" sz="6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ductive reasonin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mportant in solving crim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3:04:58Z</dcterms:created>
  <dc:creator>justin.smith</dc:creator>
  <dc:description/>
  <dc:language>en-US</dc:language>
  <cp:lastModifiedBy>justin.smith</cp:lastModifiedBy>
  <dcterms:modified xsi:type="dcterms:W3CDTF">2011-11-16T20:08:03Z</dcterms:modified>
  <cp:revision>4</cp:revision>
  <dc:subject/>
  <dc:title>Do Now (5 mins)</dc:title>
</cp:coreProperties>
</file>