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9440F-0782-48FC-9392-663569DEEF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C0AA-CA4F-47F8-B0CF-C64E958DFB12}"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85BA-9DCC-447F-966F-60A3B1AB0A1A}"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21025AB-6937-4EC3-9E18-2D04765864F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00FA86-6079-442B-AC2B-C393C587248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D0E3CA-4EC0-440E-A33A-C11E79642D21}"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31DAD7-4CED-4C9F-AE4C-82AF0AEADF6C}"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6301A5B-6976-44B5-9E4D-CDEFC0BE9AF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4A4077-826B-4135-86A1-6343C2BF7541}"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892BC4-DA54-4C52-B1E4-E2AD557F263E}"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8CAD11-4473-49AA-BF3E-E19D5DC5F3F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57F60D-E04C-4D2A-81FB-5287BB2ED73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006843-91D7-48C7-B9EF-41A0F744B8E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754B97A-D819-4F57-9C23-BA888A760EA1}"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0B5F2A92-F31D-4A2E-AE41-8A5317640B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C78A41-DA16-4710-BFFE-6E5CE93AD7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E578050-65C5-41C5-96BA-58C60673E19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D43BE3E-E7C8-4D74-AC0E-2E5392C9D01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7C5358B4-EED9-45B8-AD59-DE7A71C80081}"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F386DF3-C4D5-4C9B-A5B2-4FAAF074E8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8549F5C-5237-4069-83C0-E342EC6B342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38ABFCF-88D0-4C08-ADF6-A90A5B41511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4AA977D-67D5-40FA-972D-84D8A6EB7C00}"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7148178-9BBD-42A3-8C12-CAF0C4464CD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B5A7DBE-560A-4B3E-A05C-1061BCF88C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0F49684-6C04-45E3-8175-C68FF3514A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94D09F-4633-4284-AB4E-ACB72F1593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65973C32-0E11-4B9D-96D6-875754EB3C3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F09A7702-5A56-4030-8901-4FBA89223A43}"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2EB2EE0-9213-4F6E-88F8-09EE75AE1792}"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C74DF82F-BC26-4445-9AFF-95A8AA986972}"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9003922-E8F4-4D03-838B-1C9F047280F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7540574-1FED-4CC9-8B42-52ED24D71D0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58F0C17-F0C0-47D9-ABA6-51D31EC2214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BF4151E6-32B1-496D-86B6-CAEFFD3391C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67742E6-6506-451E-94D6-22BA6DB61B5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75DFA18D-5E46-4DE5-B35F-634AF4590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577D6E6-1BC3-4005-A7B2-84B3C3A500C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2F79412-66C0-43B4-B752-458340552DF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7352AF76-B219-4771-B889-70EB9A2E204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57BFAD4-7778-4011-BB71-499BFBAE15A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AFBE4C4-3D00-4486-B572-522C679D95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45E97C-F3BC-4E23-B0A6-91E40DD1BA9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C7AC3A2-9408-465E-A501-4EFD07E6C3F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E03900-34CC-4AE6-869D-D04096BFCEB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C99617-C106-46B2-9100-60DE1C78D22B}"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A9E965-053F-4B64-B39B-32FCBE31FBE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53D744-2B25-4FB3-AAC7-8629A4C1B61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53F8C02-F029-4F05-B5EC-862DBD0C691E}"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E11DC2-BD5D-4AF7-AF4D-684BDB06735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75D8D3-81C9-4A5F-9026-60CC15149228}"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1E3017-52AE-4060-BB99-9DAEE5795AE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7FAB7B-EFA7-4C69-B949-A313A85E1D4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560CA60-46AD-46D1-8D27-92F4D0AE0ED9}"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055B470-D0B4-43C4-84F4-18DE6205523A}"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B2A6DCF-962F-477D-902D-24EC6A16716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AF12605-C052-42EC-A46A-ACB36311BDB6}"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1E3319D-B6E2-473D-8ED8-AF2B40AF7E21}"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754324BE-E508-4AF1-869A-C8A816A0FEB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460CEA-88C3-4EF5-8D36-832698AAE868}"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F86F8B5E-2E38-4DD5-9E99-5E3364B4E097}"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8C6F8980-D1D3-4F52-A774-9F513CE7D43D}"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E9E03D1-255D-4E9E-9EE8-C5A20CCD7FB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E67B8B4-A46F-4EE1-8E59-7B8450ABA1D0}"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94E78CA-1998-4E38-8D8F-57EB0BE7EB0D}"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00693C7-495A-4563-BD71-D8147965B715}"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2265B00-FA36-4904-9BC2-A9802BD7C6F6}"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6E9C6AA1-0C2A-4971-A87D-F836041CF68A}"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BCD7B67C-C1A2-44AE-9654-51170AF31DFB}"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EC6D23B7-AE2B-47B3-866C-5F5E3D3F544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42F4CBA-3F97-4AF1-AF71-0F44D35BC732}"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634C28DD-7A05-46E1-90D5-E5465D886940}"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C3D72C57-F018-4B8B-AE41-317234B28C16}"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2412E73-5A4D-4601-B0B1-CFB6A49398A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3B884C4-26BE-4F08-8606-65E3B0376392}"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092D3C7-CADB-40B0-AF69-79372588F24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ED4C458-4CEA-4AEB-ADDE-DE0209533B89}"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7573134-092F-4FBE-A014-EE96B64505C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8C44C7E-2C69-498C-9ED7-DDBEFEDFE16E}"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D6EFD086-7DBB-4611-BAEF-D8866F9FB81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ABB1CB2D-1FE3-4BA5-8F3E-353DF5DB7E4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4EC366-B2A3-42A3-A989-9EDF2658D41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54F358F-5B57-4B84-AA99-3FF24A2B3B3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31EF82-00BA-42D0-BCE5-E904EBBBF47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8C26E29-1B23-4947-AB9F-3C15EFB6DD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DA8D5DF-49DD-4EC5-AA36-16D10B7255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29481024-D560-4878-8191-C44C46CABDA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BC3A1D7-7361-43A0-A106-C33A5884B63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BCC07637-DDB7-4CFD-A66D-96B495FF76B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3EA034-22EB-4033-B546-D8228EE988AC}"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7D0688-9011-4958-8C4F-1788AE9E3E5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CEA75A-5EFB-4245-9F1E-F7A422ACA24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56E614-C90E-42B7-AE18-1BF50D47EF9E}"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B39DB8-863F-474C-B131-0C19F1FB972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B45B9F-66C5-4907-B91E-B484032C9FD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4508F8-107B-463A-AC72-F45DFE0A01F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ECF8A-6202-4F7A-BE11-120DCD1134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BFA4EC-126E-4BCD-AE79-EBF240E0653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96E12-640E-43A7-822B-DBCD15DF5E37}"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114301-4B24-4E44-AB3F-97C4C4EC553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CE9861-EECB-4460-90DE-64E2215EDDF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4AFB63-C9CE-480C-9CF0-CDB97EA0DA1C}"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8182B6B4-B0B4-46FA-AA72-33A08B801049}"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7912490-63F8-4566-B880-54854BB8BF1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5AB6F31-2454-41FC-ABD5-918ABB1B65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6AA5457-403A-4BBF-8C58-B0515EFCF25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78E3736-FE1A-40B7-B1B4-2CCA0288FF14}"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20C8E1D-D4E0-45E6-9F18-0BE9E724A2A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F3AA3D9-4237-41CE-87E2-A4AB9CDB19B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1C6F5A0-F6AD-42A4-B4C9-DFA9DCD7BCED}"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33400E6-050C-4203-826C-BEE5A7DDB0F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AB36B850-513D-4FD6-B1F1-F73B25EB5A8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BF3FC4D5-643A-4F06-92FF-35B87DF1D24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115B139D-F363-4874-AC82-6F99ACF5A844}"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EBC918DF-ABB1-4323-BF6F-DCA789C81AD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0EC8C03B-239B-495D-A4BF-8C474D2717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737D77-5B2E-4052-816F-DF1B3057B21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87A4098-8414-4D89-8BCA-905EF1DB661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55225E8F-30F6-425D-9EC7-F30ED1810A9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7796636-C93D-490F-B9F6-BF7798E8C0B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0F638FE-D451-41B9-8B61-22F39C2D77F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905B412-3D1C-4AF1-A9BE-75807774F10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41514A-172A-477F-A48B-0F6786B6DCF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25813B2-435D-481E-8BEB-E6C50FE6232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44D92D9-88F3-43E8-8C22-69D8FCB895B6}"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3555C8D-BC7E-4536-A558-010063997BB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74CD6650-4E32-40C8-A998-CCC13620767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029BD09-6CCC-43B6-8591-176F7F9EE32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1DD3A97-70A7-4954-8AB4-B0E11F8C33B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F64D79-80FC-49A2-A1D4-2D9B7DAD3A5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3D712D-F3E6-46A2-854C-8B3E0FA31A48}"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056220B-3FA4-4DE3-A2C7-5B11402BB569}"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2D18AD-171E-46E5-8456-2CCCC2DEB7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3DF3A1-08B2-4393-B8F7-5F205D9C9B29}"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1BDC2C-42E5-493C-877E-35C4B96B3D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7FF856-DC47-4AD0-AF25-548200D66E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E12F0-1F0F-470B-88D1-67678C86664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7FEA3E-FA77-4D75-B8C2-DD7822AE33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983448-C911-47A0-AE6D-2671AE6D2395}"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0CCC65D-34EB-4105-A62B-39CB093F596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93C67C4-6090-46B5-9458-491FFEF5529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642520-507A-4936-8607-70804197FE9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A245F2CD-DC03-42F2-B31C-44BF3841E18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6B25956B-4C96-4F6D-A263-F0D0E0F49F5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5C0AA7A-BA67-4BA9-848E-29B3F094D252}"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E1C6708-819B-44D8-BFBD-9484138D495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3747A1-CBCC-4928-8D5F-A7327ED24EC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BA536C7-A582-4359-B6EC-1818CAE87193}"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B979D587-0BA5-41A9-A76F-7E784D35665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D01E68-793D-4F2E-9A05-42C66F3900B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D885AA-6910-4496-A2EF-47488A89BF9F}"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8966218-4796-4113-B901-A7E3A91F8A77}"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9046877F-D7B4-4C41-9DFE-33334AF77EA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A6FD4499-B03B-4C23-93F0-E318E9E474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628FCF4-C7D1-49BD-A8A7-0115CC8A547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49D18087-0B85-4C4A-B21F-0A4E72BDF40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6C4FB2E0-8F6B-4317-8C9B-6E5E9CE9CBE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21EA2C0-DFC6-4C36-8885-C01CAFC389E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D27B1457-CB30-450F-B90C-5B894CEAE6C4}"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C403403-1F8F-421E-9EA6-97670FDE6FF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BF36A5-5C0F-43DF-A09F-CACF9658928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20DE7D4-4E60-4677-B7DB-B71BCDB68D2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83E759C5-5B1B-4863-8833-CB25E12302B4}"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D18A619D-97E6-4D7A-B619-9B4B6D929E9A}"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E89D343-3E0D-42C2-80AC-683B22AC6D40}"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9F37320F-E8EF-4414-9DC4-C45201CD0A7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1142951A-2E16-4459-A341-AEEEE5FAF08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E613B68A-5BF6-4697-8213-4CE7D0A664C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4422935-C30A-4319-ACDE-AE723C00B15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1CB821-4EB4-4BC5-8DFC-B373C9F6376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39CEC1-0532-446F-A922-48ABB0C93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B1430-9832-453B-AAEC-8842386D839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9383A-EC90-4969-B76A-AB890D8596E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0566E-0C30-4C29-8E22-5CB904A8445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D70E-7E2B-4896-8D46-044FEEFB490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3760-6EED-42FF-851D-0B47524DEBA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7C0D3-9AF1-4E2D-A609-0C8604A3F6C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50966-0197-4080-AA85-40BC3A7C7D5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CB3F-D99D-4243-BE5F-4CB9258AEF63}"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4C720-EBD0-4FE5-BCEC-72326088413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A620B-3EAC-4580-84F8-D3343C03B91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9159E-F53F-4A34-9C91-5B74FD03B26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3789B-0A8E-4D82-9F25-B49C34D8FAD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D8C41-4474-4474-91FB-3D88D3136AF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7F811-C0EC-4522-B6D3-8EC0C29387D6}"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EADE5-B051-4BFF-8130-D3E62F59252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25DF0-D239-4DEE-BF9F-79579994959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555D-6E92-4CB3-B889-D7597D7D9A8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D661-BA2F-4CE7-A3E1-0C49AE3DC18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6B0A-1772-4304-AA40-F2F769DED0E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6DD88-74F5-4865-88EB-845F9666166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F7806-1EE6-466A-B80F-47068783FC5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D375E-5BBE-4C3D-B050-EBEAE6798E3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3F8E5-7E4E-47F6-A462-2FDB6F9559A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4F1DD-4FB0-4A46-BE85-BCE4C2AFE40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48C6A-B859-4BF0-A61E-17229371CD3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D4CF3-707E-4688-A0A6-00BD9DE7DEE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5052A-8B5E-4AD8-9333-A4929FE6EB6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F7A2F-0ACB-4199-BA67-7747BBDFE6E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0B12F5-C640-4797-8220-5DC7A094A90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5D4AF-E96C-47B1-81E3-3BAD0F3351F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1A8D4-A621-40F6-9B6D-BEB70FFC63E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7827-80A5-44B4-A186-3C770973A0C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F2096-910C-4D33-9D68-3E1CD781C27B}"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45300-7B8B-4EC8-BB18-5A1A38BC99B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